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58F8-012C-4324-80B2-180EF8F7D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CB15-F24D-4B37-BF7E-C14C6E80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90BF-7AF9-46B1-AAE8-A17D9C52F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6D98-BF0F-4003-8597-BD576DF0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4676-A1ED-41F5-9654-007A9A7F2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F007-190D-4D45-ACC4-D37896168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C071-362D-4520-B894-F6B43A7A0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4AA8-1C73-49B0-9EDB-C7252AB1F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7CB9-9EB8-416A-8416-33E9C58F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8A96-E438-459D-A7A0-3B291817B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12E7-A85C-4FE0-BD6B-0FC1433A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BB8D-1598-480B-9F42-C836E2965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1C4A-4F61-462F-94CC-AF4A4B736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C7CC-2FEF-4AA8-9E0F-818E34FC6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49F9-7122-49DC-9959-79A999CD3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2D89-731A-4ED9-BE35-7C0CBE88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B791-6230-4E04-B582-B249FA4C2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5C5-16D4-41F7-8CB8-6AD78A966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B199-65B4-4F72-B16E-877D1A5F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662E-FB61-44CC-86EE-DD94A0FE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7286-1769-4E09-99B0-7186E50E8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DD09-0916-42E0-83D7-0DC22BF48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8C1B-2D48-436F-9DC8-F3C7D60D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309A-340F-4037-A375-41DBC9C80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D91F-5623-40CE-B8A5-E8F558FCC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D8F2-6319-4E10-A799-6ABFC627D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2656-94CF-4A8C-BBBA-F4A0B74B6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396-7574-4E9A-8D86-DB79D0AB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DCB-4306-4D64-A591-DDF72573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6BB-35A0-453B-B7D1-4B46EC49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D41-3C02-473E-86BD-418B21F4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AC3-1091-4C83-974E-11E67CAC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2E4-FD68-4A4C-BE98-3516C51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3CC-76C8-48CD-BF6A-74CFA472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FC9-82AE-469F-AF9C-CB4DA089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648-B83E-4092-A842-9B572091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DF8-C4DE-4CA4-B7D5-326680EF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92C-FF4D-4517-A159-0DEA553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2FF-2984-4297-BC54-9C60D0D7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FB89-3B77-4F85-90A1-64BC62DC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assauclerk.com/clerk/publicrecords/oncoreweb/search.aspx?bd=08/31/1982&amp;ed=2/10/2010&amp;n=PATTON%20ANN&amp;bt=O&amp;b=1592&amp;p=444&amp;d=2/10/2010&amp;pt=-1&amp;dt=ALL%20DOCUMENT%20TYPES&amp;st=bookpag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Assignment Identifies       American Home Mortgage     Acceptance / Ann Patton                        as the Grantors                                (MERS Appears also in Two of Them) and with Various Assignees:         Bogus, American Home Mortgage Servicing, Inc., and American Home Mortgage Servicing, Inc./Option On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733920" y="45720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th Bogus             Assignments Were Prepared 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865600" cy="2030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327672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on Mehar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OC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harg Is Senior Vice President      of IT Solutions                                        at FIS-LPS-DSG (DOC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733920" y="1066320"/>
            <a:ext cx="4952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Signed 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32767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inda Gr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een Holds Many Job Tit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12408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304920" y="533520"/>
            <a:ext cx="883908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-11-2008 &amp; 08-14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-27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merican Home Mortgage Servicing as successor-in-interest to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19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30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30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04920" y="685800"/>
            <a:ext cx="8839080" cy="55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-08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 &amp; Asst. Secretary, American Home Mortgage Servicing, Inc., as servicer for Ameriquest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-16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-17-2008 &amp; 11-20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-20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08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04920" y="609480"/>
            <a:ext cx="8839080" cy="55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15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HLB Mort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24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26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merican Home Mortgage Servicing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-13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Family Lending Service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-1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cting solely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04920" y="533520"/>
            <a:ext cx="883908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15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Brokers Con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0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cting solely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24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merican Home Mortgage Servicing, Inc., as successor-in-interest to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2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Bank of America, N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27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merican Home Mortgage Servicing, Inc., as successor-in-interest to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04920" y="380880"/>
            <a:ext cx="883908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-27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Deutsche Bank National Trust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3-02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cting solely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3-04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Argent Mortgage Company, LLC by Citi Residential Lending Inc., attorney-in-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3-06-2009 &amp; 03-20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4-15-2009, 04-17-2009 &amp; 04-20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Bank of America, N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04920" y="685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-11-2009 &amp; 07-06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-14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Bank of America, N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-1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 &amp; Asst. Secretary, American Home Mortgage Servicing, Inc., as servicer for Deutsch Bank National Trust Company, as trustee for Ameriquest Mortgage Securities, Inc. asset-backed pass through certificates, series 2004-R7, under the posting and servicing agreement dated July 1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-30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685800"/>
            <a:ext cx="883908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-12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Sand Canyon Corporation, f/k/a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-28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03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t. Vice President, Sand Canyon Corporation, formerly known as Option One Mortgage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03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t. Secretary, MERS, acting solely as nominee for American Home Mort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04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t. Secretary, MERS, acting solely as nominee for American Home Mort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axbankruptcybootcamp_smaller"/>
          <p:cNvPicPr/>
          <p:nvPr/>
        </p:nvPicPr>
        <p:blipFill>
          <a:blip r:embed="rId1"/>
          <a:stretch/>
        </p:blipFill>
        <p:spPr>
          <a:xfrm>
            <a:off x="2590920" y="609480"/>
            <a:ext cx="3962160" cy="1521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____________________</a:t>
            </a:r>
            <a:br>
              <a:rPr sz="3900"/>
            </a:br>
            <a:br>
              <a:rPr sz="1000"/>
            </a:br>
            <a:br>
              <a:rPr sz="1200"/>
            </a:b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DOCX                        Assignment of Mortgage</a:t>
            </a:r>
            <a:br>
              <a:rPr sz="47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-----------------------------------------------------</a:t>
            </a:r>
            <a:br>
              <a:rPr sz="4700"/>
            </a:br>
            <a:br>
              <a:rPr sz="1000"/>
            </a:b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Bogus Assignee</a:t>
            </a:r>
            <a:br>
              <a:rPr sz="4700"/>
            </a:b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____________________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685800"/>
            <a:ext cx="883908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08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Bank of America, N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9-21-2009 &amp; 09-22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e President, MERS, acting solely as nominee for American Home Mortgage Acceptanc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nd the List Goes 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so Signed 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403848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omas, Harp &amp; Hua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ld Equally Impressive               (and Lengthy) Job Tit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593800" cy="119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200400" cy="9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5562720" y="2743200"/>
            <a:ext cx="3276360" cy="960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Bogus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…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ereby, grant, bargain,      sell, assign, transfer,          convey, set over,                        and deliver unto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BOGUS ASSIGNEE FOR INTERVENING ASMTS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33520" y="212760"/>
            <a:ext cx="8001000" cy="638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x Gardner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ankruptcy Boot Cam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 Box 1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sar NC 28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04.418.2628 (Max Dir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bankruptcybootcamp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axgardnerlaw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gardner@maxgardn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oks like DOCX’s                      “Art Department”                       Forgot to Change                         the Wording on Their              Assignment of Mortgage  Template before                            They Filed this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…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ereby, grant, bargain,      sell, assign, transfer,          convey, set over,                        and deliver unto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BOGUS ASSIGNEE FOR INTERVENING ASMTS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t Is Recorded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ok 1592, Page 44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the Nassau County Clerk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ficial Rec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wo Additional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ssign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ame Own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Sam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28600" y="309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21:36:55Z</dcterms:created>
  <dc:creator> </dc:creator>
  <dc:description/>
  <dc:language>en-US</dc:language>
  <cp:lastModifiedBy>user1</cp:lastModifiedBy>
  <dcterms:modified xsi:type="dcterms:W3CDTF">2011-02-15T16:27:32Z</dcterms:modified>
  <cp:revision>13</cp:revision>
  <dc:subject/>
  <dc:title>Slide 1</dc:title>
</cp:coreProperties>
</file>